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EA8-5706-47D6-B07B-6207FA48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3DB-28CB-4F21-9E31-2887A88D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418-9F22-4D23-A119-234909C9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CB7-459C-4722-B276-CF7D0810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0F3B-A655-46EA-8005-6D386C0F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0ACA-9D85-44E1-B3E3-8AFCF5EE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BB4-17AD-46C5-AF62-25F29984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7C9D-3393-49DB-AF6B-8B9EF445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8BD0-98B1-4CC6-884D-2BA9FD90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830C-CE52-4A42-B0F8-A33101BE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A6B2-5C10-4EE8-9A8C-BBD6FDE1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599-C5DF-4DA3-8ED0-F024ED92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47A7-0546-417B-8CCE-F927E66D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26C0-97A7-4BDC-BD1A-33EC9A83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A34-02AA-419C-ACBD-C334B8D2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658B-7CA2-4F5B-A01C-A059CE86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DD4D-1F4E-4143-B575-FB48E2C0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2EB-4D4F-4198-8C3E-BA4FC974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AE8-DC09-4D50-AD73-60572331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CF7-5E1C-48A4-B06A-4335936B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437-EA36-401A-B78A-15C223A4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B3B-2F69-409E-8047-923FF0EC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D42-2FC2-48B1-BB1D-7A6AC22E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0AA-1B99-4779-972C-DC53A617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97CB-D851-48A0-9A98-D3A13DE70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640" y="130032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145260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B891-76E1-415F-8C60-BA48D1355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640" y="364500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8600" y="379728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eração de código intermed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vembr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observamos, o objetivo de se realizar a geração de código intermediário é permitir a realização de otimiz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 seria um outro uso de linguagens intermediárias atu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7080" y="4149720"/>
            <a:ext cx="17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Ja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ste uma variedade de linguagens intermediárias atu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se está projetando um compilador, certamente a decisão de qual linguagem intermediária utilizar é cru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endendo da linguagem intermediária, otimizações de código poder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 mais facilmente serem impleme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 mais difíceis de serem impleme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mandar mais tempo de computação se as linguagens intermediárias forem inapropri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o ponto importante é observarmos quão independente de máquina a linguagem intermediária 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mais dependente de máquina, será mais difícil de se implementar certas otim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muitos compiladores fazem é a utilização de várias representações intermediá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rante o processo de compilação, inicialmente gera-se uma primeira representação intermediária, na qual são aplicadas otimiz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guida, esta representação otimizada é convertida em outra representação intermediária, conveniente para a aplicação de outras otimiz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exemplo de compilador que realiza tal estratégia é o compilador da Hewlett-Packard para PA-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linguagens intermediárias podem ser classificadas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ns intermediárias de alto 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as da linguagem f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ns intermediárias de nível mé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ns intermediárias de baixo 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as da linguagem al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compilador pode gerar mais de uma destas representações durante o processo de compi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possível forma de representação intermediária é a árvor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forma condensada de árvore gramatical, útil para a representação das construções de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rodução S ::=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ria aparecer numa árvore sintática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7760" y="1617480"/>
            <a:ext cx="327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43200" y="2075040"/>
            <a:ext cx="83808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913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49560" y="291312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2913120"/>
            <a:ext cx="14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2151000"/>
            <a:ext cx="0" cy="60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151000"/>
            <a:ext cx="53352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a árvore sintática os operadores e as palavras chaves não figuram como folhas, ao contrário, são associados a um nó i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Para a expre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:=  b * -c + b*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emos a seguinte árvore sint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3276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43200" y="37339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7339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407988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70280" y="47005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08160" y="5386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236760" y="5081760"/>
            <a:ext cx="60984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8880" y="5081760"/>
            <a:ext cx="53352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8880" y="5462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79760" y="61484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584352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59680" y="47815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97560" y="541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26160" y="511020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5105520"/>
            <a:ext cx="468360" cy="46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88280" y="5491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69160" y="6176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21440" y="58723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38480" y="4419720"/>
            <a:ext cx="91440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4419720"/>
            <a:ext cx="10666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agora explorar as questões envolvidas na transformação do código fonte em uma possível representação intermedi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vimos, nas ações semânticas já é possível fazer a geração direta de código (assembly por exemp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Árvores sintáticas permitem que a geração de código seja desacoplada d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geração das árvores sintáticas é feita através de ações semân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 para um comando de atribuição poderíamos ter a gramática com as seguintes ações semân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280" y="24379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 -&gt;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:= E          S.nptr := criar_no(‘assign’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criar_folha(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local), E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 -&gt;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|        E.nptr := criar_nó(‘+’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|        E.nptr := criar_nó(‘*’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|              E.nptr := criar_nó(‘menosU’,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(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) |           E.nptr := E</a:t>
            </a:r>
            <a:r>
              <a:rPr b="0" lang="pt-BR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npt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                 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.nptr := criar_folha(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.loc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Grafo Dirigido Acíclico GDA também é uma representação intermediária de um compil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(GDA) para uma expressão identifica as subexpressões comuns existentes na me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uma árvore sintática, um GDA possui um nó para cada subexpressão de uma exp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nó interior representa um operador e os filhos representam seus oper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diferença entre um GDA e uma árvore sintática (AS) é que, um nó de um GDA representando uma subexpressão comum, possui mais de um 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DA fornece as mesmas informações da AS, porém de maneira mais compa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go, no exemplo visto anteriormente terí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Para a expre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:=  b * -c + b*-c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emos o G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7040" y="2805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74920" y="35672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603520" y="32623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80040" y="32623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72160" y="3546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7242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5410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191120" y="5105520"/>
            <a:ext cx="60948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5105520"/>
            <a:ext cx="53352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54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84800" y="61340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8672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3962520"/>
            <a:ext cx="30456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cubicBezTo>
                  <a:pt x="96" y="100"/>
                  <a:pt x="192" y="200"/>
                  <a:pt x="192" y="288"/>
                </a:cubicBezTo>
                <a:cubicBezTo>
                  <a:pt x="192" y="376"/>
                  <a:pt x="32" y="488"/>
                  <a:pt x="0" y="52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59400" y="3962520"/>
            <a:ext cx="317520" cy="838080"/>
          </a:xfrm>
          <a:custGeom>
            <a:avLst/>
            <a:gdLst/>
            <a:ahLst/>
            <a:rect l="l" t="t" r="r" b="b"/>
            <a:pathLst>
              <a:path w="200" h="528">
                <a:moveTo>
                  <a:pt x="200" y="0"/>
                </a:moveTo>
                <a:cubicBezTo>
                  <a:pt x="108" y="76"/>
                  <a:pt x="16" y="152"/>
                  <a:pt x="8" y="240"/>
                </a:cubicBezTo>
                <a:cubicBezTo>
                  <a:pt x="0" y="328"/>
                  <a:pt x="76" y="428"/>
                  <a:pt x="152" y="528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657600"/>
            <a:ext cx="2743200" cy="1295280"/>
          </a:xfrm>
          <a:prstGeom prst="wedgeRoundRectCallout">
            <a:avLst>
              <a:gd name="adj1" fmla="val -75523"/>
              <a:gd name="adj2" fmla="val 42893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ó que representa uma subexpressão comum possui mais de um p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regras semânticas podem criar os GDA´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smas regras vistas anteriormente poderiam ser us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função criar_nó (op, esquerdo, direito) deverá verificar, antes de criar um novo nó, se já não existe um nó com raiz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filho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ire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esqu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s Dirigidos Acíc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nte o GDA para a seguinte expres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a + b) * a + a + (a + b) *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omposto por uma seqüência de instruções envolvendo operações binárias ou unárias e uma a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ome ‘três endereços’ está associado à especificação, em uma instrução, de no máximo três operandos: dois para os operadores binários e uma para o resulta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: t1 = -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2  := b * 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 :=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ódigo de três endereços é uma seqüência de enunciados da forma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nde,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ão nomes, constantes ou objetos de dados temporários criados pelo compil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no lugar de qualquer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, expressões envolvendo diversas operações são decompostas nesse código em uma série de instruções, eventualmente com a utilização de variáveis temporárias introduzidas na traduçã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sa forma, obtém-se um código mais próximo da estrutura da linguag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ssembl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entanto, a maioria dos compiladores comerciais realizam a geração de uma representação intermediária entre o código fonte e o código de má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m intermedi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 representação intermediária é chamada de linguagem intermedi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código de três endereços não são permitidas expressões aritméticas construídas, já que só há um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go, uma expressão da forma x + y * z poderia ser traduzida na seqü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:= y *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2 := x +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temporários são construídos para os nós interiores da árvor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enunciados de três endereços são semelhantes ao código de montagem (linguagem assemb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possível especificação de uma linguagem de três endereços envolve quatro tipos básicos de instru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ressões com atrib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o indexado e indi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vocação de roti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atribuiçã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aquelas nas quais o resultado de uma operação é armazenado na variável especificada à esquerda do operador de atribuição, aqui denotado por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á três formas para esse tipo de instr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rimeira, a variável recebe o resultado de uma operação biná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atribu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segunda, o resultado pode ser obtido a partir da aplicação de um operador unár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op 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terceira forma, pode ocorrer uma simples cópia de valores de uma variável para out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struções de atribuição -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a instrução em linguagem de alto ní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= b + c * 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ia traduzida nesse formato para as instruçõ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t1 := c * 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:= b + _t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esso Indexado e Indi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atribuições indexadas, as duas formas básicas 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 := y[i]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[i] :=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orma x := y[i] atribui à x o valor amazenado i posições de memória a partir do endereço de memóri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orma x[i] := y atribui o valor y à posição de memória com deslocamento i partir do endereço de memória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odem assumir duas formas bás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instrução de desvio incondicional tem o form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oto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nde L é um rótulo simbólico que identifica uma linha do cód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utra forma de desvio é o desvio condicional, com o form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f x opr y goto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r é um operador relacional de comparação (&lt;, &lt;=, ...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é o rótulo da linha que deve ser executada se o resultado da aplicação do operador relacional for verdadeir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contrário, a linha seguinte é executad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a seguinte iteração em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hile (i++ &lt;= 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[i] = 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[0] = 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ases de um Comp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1989000"/>
            <a:ext cx="302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dor L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2674800"/>
            <a:ext cx="302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3471840"/>
            <a:ext cx="33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emân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6320" y="4251240"/>
            <a:ext cx="4049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dor de Código Intermedi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5000" y="5021280"/>
            <a:ext cx="489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timiz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57480" y="5749920"/>
            <a:ext cx="48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2793960"/>
            <a:ext cx="1584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6000" y="3009960"/>
            <a:ext cx="158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tador de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63640" y="2158920"/>
            <a:ext cx="107964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63640" y="2923920"/>
            <a:ext cx="115272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3297240"/>
            <a:ext cx="647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3513240"/>
            <a:ext cx="432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3657600"/>
            <a:ext cx="431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2158920"/>
            <a:ext cx="129564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2924280"/>
            <a:ext cx="12956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84720" y="3512880"/>
            <a:ext cx="115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43640" y="3512880"/>
            <a:ext cx="79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20000" y="3801600"/>
            <a:ext cx="2160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020000" y="3801960"/>
            <a:ext cx="1224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6400" y="6432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0720" y="14335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F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86240" y="174312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157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81560" y="46576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68960" y="54878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623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struções de Des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ria ser traduzida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L1:  if i &gt; k goto _L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 := i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[i] :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oto _L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L2: x[0] :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timização de Cód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árias são as otimizações realizadas por um compila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ocação de registradores: Tenta evitar a gravação/leitura de valores de/para a memória principal fazendo que os mesmos residam em registr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agação de constantes: Propaga sempre que possível constantes em expres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vocação de rotin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corre em duas etap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icialmente, os argumentos do procedimento são ‘registrados’ com a instrução pa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a definição dos argumentos, a instrução call completa a invocação da rot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instrução return indica o fim de execução de uma rot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cionalmente, esta instrução pode especificar um valor de retorno, que pode ser atribuído na linguagem intermediária a uma variável como resultado de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considere a chamada de uma função f que recebe três argumentos e retorna um val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(a, b, c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te exemplo em C, esse valor de retorno não é utilizado. De qualquer modo, a expressão acima seria traduzida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m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m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_t1 := call f,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vocação de rotina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nde o número após a vírgula indica o número de argumentos utilizados pelo procedimento 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o uso desse argumento adicional é possível expressar sem dificuldades as chamadas aninhadas de procedim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tribuições de ponteiro e endereç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instruções em formato intermediário também utilizam um formato próximo àquele da linguagem 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 := &amp;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 := *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x := 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mplementação de código de Três Endereç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presentação interna das instruções em códigos de três endereços dá-se na forma de armazenamento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elas com quatro colunas(quadrúpl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elas com três colunas (tripl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ádru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abordagem que utiliz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ádrupl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cada instrução é representada por uma linha na tabela com a especificação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meiro arg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o arg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do result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1772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cao := inicial + taxa *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64200" y="22129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2872080"/>
            <a:ext cx="2808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L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2920" y="5024520"/>
            <a:ext cx="33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4000" y="3916800"/>
            <a:ext cx="43196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= i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i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4200" y="334476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64200" y="437364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64200" y="552600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71680" y="4221000"/>
          <a:ext cx="1768320" cy="1551240"/>
        </p:xfrm>
        <a:graphic>
          <a:graphicData uri="http://schemas.openxmlformats.org/drawingml/2006/table">
            <a:tbl>
              <a:tblPr/>
              <a:tblGrid>
                <a:gridCol w="687240"/>
                <a:gridCol w="10810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pt-BR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17960" y="380844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6640" y="4206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560" y="4543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4960" y="4929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2360" y="530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ádru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, a tradução da expre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= b + c * 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ria no seguinte trecho da tabe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755640" y="3573360"/>
          <a:ext cx="7714800" cy="2336040"/>
        </p:xfrm>
        <a:graphic>
          <a:graphicData uri="http://schemas.openxmlformats.org/drawingml/2006/table">
            <a:tbl>
              <a:tblPr/>
              <a:tblGrid>
                <a:gridCol w="608400"/>
                <a:gridCol w="2149560"/>
                <a:gridCol w="1378800"/>
                <a:gridCol w="1379160"/>
                <a:gridCol w="2198880"/>
              </a:tblGrid>
              <a:tr h="77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ádru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lgumas instruções, como aquelas envolvendo operadores unários ou desvio incondicional, algumas das colunas estariam vaz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i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outra forma de representação, po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ripl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evita-se a necessidade de manter nomes de variáveis temporárias ao fazer referência às linhas da própria tabela no lugar dos arg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9640" y="4076640"/>
          <a:ext cx="8147160" cy="1855800"/>
        </p:xfrm>
        <a:graphic>
          <a:graphicData uri="http://schemas.openxmlformats.org/drawingml/2006/table">
            <a:tbl>
              <a:tblPr/>
              <a:tblGrid>
                <a:gridCol w="642960"/>
                <a:gridCol w="2270160"/>
                <a:gridCol w="1455840"/>
                <a:gridCol w="1455840"/>
                <a:gridCol w="2322360"/>
              </a:tblGrid>
              <a:tr h="64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_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 flipH="1">
            <a:off x="8317080" y="3429000"/>
            <a:ext cx="576000" cy="151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i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se caso, apenas três colunas são necessárias, uma vez que o resultado está sempre implicitamente associado à linha da tab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ip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mesmo exemplo apresentado para a representação interna por quádruplas, a representação por triplas s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4360" y="3429000"/>
          <a:ext cx="7427880" cy="1979640"/>
        </p:xfrm>
        <a:graphic>
          <a:graphicData uri="http://schemas.openxmlformats.org/drawingml/2006/table">
            <a:tbl>
              <a:tblPr/>
              <a:tblGrid>
                <a:gridCol w="720720"/>
                <a:gridCol w="2454480"/>
                <a:gridCol w="2125440"/>
                <a:gridCol w="2127240"/>
              </a:tblGrid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2360" y="1967040"/>
            <a:ext cx="331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789200" y="166680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3127680"/>
            <a:ext cx="331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Semân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346640"/>
            <a:ext cx="3352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 Intermedi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56386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4952880"/>
            <a:ext cx="35812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nttoreal( 6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2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62480" y="24606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8840" y="36781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20040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057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apas realizadas através de ações semânticas inseridas dentro do analisador sint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419720" y="3428640"/>
            <a:ext cx="83808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105520"/>
            <a:ext cx="1800" cy="55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6023160"/>
            <a:ext cx="35780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timiz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589720"/>
            <a:ext cx="5461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429000"/>
            <a:ext cx="35812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nttoreal( 6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2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08000"/>
            <a:ext cx="3353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 Intermedi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895480"/>
            <a:ext cx="1440" cy="55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3352680"/>
            <a:ext cx="381240" cy="129564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5812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de três endere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6640" y="1844640"/>
            <a:ext cx="410364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5805360"/>
            <a:ext cx="324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68280" y="4005360"/>
            <a:ext cx="35355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6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5680" y="1971720"/>
            <a:ext cx="39672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6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2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3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 tem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81360" y="3500280"/>
            <a:ext cx="0" cy="41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13360" y="306864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timizador de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16120" y="532620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6165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5953320"/>
            <a:ext cx="28083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61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uma sente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51280" y="4771080"/>
            <a:ext cx="261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F   _taxa,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F   #60.0,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F   _inicial,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DF   R2,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F   R1, _posi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5440" y="2324160"/>
            <a:ext cx="324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1  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* 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= i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+  tem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3800" y="4267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5440" y="3694320"/>
            <a:ext cx="28083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05440" y="18194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3800" y="31161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32:39Z</dcterms:created>
  <dc:creator>mArCeLo</dc:creator>
  <dc:description/>
  <dc:language>en-US</dc:language>
  <cp:lastModifiedBy>Marcelo Silva Cintra</cp:lastModifiedBy>
  <dcterms:modified xsi:type="dcterms:W3CDTF">2006-11-08T02:23:27Z</dcterms:modified>
  <cp:revision>653</cp:revision>
  <dc:subject/>
  <dc:title>Aula 1802 – Fases de um compilador</dc:title>
</cp:coreProperties>
</file>